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1D1-11E0-42C6-8717-432EAC24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5468-BCAA-4F4E-89F4-B467CDB4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EF6-3EA9-4DB1-86A8-FBFB2682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D96-00D8-4EBE-8761-B49A8DAC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EC3-AE87-4D29-B688-668F28C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370-8F9C-4DE5-AB94-60342399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EAE-C62E-4CA5-982A-BADF711D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703-FF51-411B-A29F-0ED5043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01E-CCA0-4C6C-94B4-69891F4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D92-1A2D-4BEE-98F0-763B4DCD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DAF-F812-47DB-9DE2-C711959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BB0-D902-46B9-9C71-7736033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56D4-D216-4708-AC62-AA6B8C7E728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640"/>
            <a:ext cx="6408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0dc"/>
                </a:solidFill>
                <a:latin typeface="Arial Narrow"/>
              </a:rPr>
              <a:t>Safety in the water </a:t>
            </a:r>
            <a:br>
              <a:rPr sz="4400"/>
            </a:br>
            <a:r>
              <a:rPr b="0" lang="en-US" sz="4400" spc="-1" strike="noStrike">
                <a:solidFill>
                  <a:srgbClr val="f810dc"/>
                </a:solidFill>
                <a:latin typeface="Arial Narrow"/>
              </a:rPr>
              <a:t>for younger k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0dc"/>
                </a:solidFill>
                <a:latin typeface="Arial"/>
              </a:rPr>
              <a:t>By Abbie Lidd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0dc"/>
                </a:solidFill>
                <a:latin typeface="Arial"/>
              </a:rPr>
              <a:t>5/6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03280" y="836640"/>
            <a:ext cx="63356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 Narrow"/>
              </a:rPr>
              <a:t>Sun Smart</a:t>
            </a:r>
            <a:endParaRPr b="0" lang="en-US" sz="1800" spc="1" strike="noStrike">
              <a:ln w="507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 Narrow"/>
              <a:ea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550000">
            <a:off x="468360" y="2636640"/>
            <a:ext cx="16556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0579400">
            <a:off x="2410920" y="198900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335200">
            <a:off x="2339640" y="27079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215800">
            <a:off x="2050920" y="357300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Wear a wide brimmed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3429000"/>
            <a:ext cx="360360" cy="28728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2440" y="765000"/>
            <a:ext cx="114156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114156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005800">
            <a:off x="5148360" y="1484280"/>
            <a:ext cx="1555560" cy="181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71000">
            <a:off x="5724000" y="3715920"/>
            <a:ext cx="3167280" cy="2160720"/>
          </a:xfrm>
          <a:prstGeom prst="cloudCallout">
            <a:avLst>
              <a:gd name="adj1" fmla="val -39634"/>
              <a:gd name="adj2" fmla="val -63032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Put sunscreen on before you go to the beach o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Because you might get bur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189000"/>
            <a:ext cx="802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wim betwean the flags at the beac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8424720" cy="177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928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F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Find the flags and swim between them - the red and yellow flags mark the safest place to swim at the be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L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Look at the safety signs - they help you identify potential dangers and daily conditions at the b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Ask a surf lifesaver for some good advice - surf conditions can change quickly so talk to a surf lifesaver or lifeguard before entering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Get a friend to swim with you - so you can look out for each other's safety and get help if needed. Children should always be supervised by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Stick your hand up for help - if you get into trouble in the water, stay calm, raise your arm to signal for help. Float with a current or rip - don't try and swim again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0"/>
            <a:ext cx="8640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re is some Information on Water Safet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36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Rips</a:t>
            </a: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 - A rip is a strong current running out to sea. Rips are the cause of most rescues performed at beaches. A rip usually occurs when a channel forms between the shore and a sandbar, and large waves have built up water which then returns to sea, causing a drag effect. The larger the surf, the stronger the rip. Rips are dangerous as they can carry a weak or tired swimmer out into deep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203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The Surf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Identifying a Rip - </a:t>
            </a: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The following features will alert you to the presence of a r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darker colour, indicating deepe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murky brown water caused by sand stirred up off the bot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smoother surface with much smaller waves, alongside white water (broken wa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waves breaking further out to sea on both sides of the 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debris floating out to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a rippled look, when the water around is generally c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Always swim between the flags and if you are unsure of the beach conditions always check with the lifesavers on duty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5783400"/>
            <a:ext cx="43909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8900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Narrow"/>
              </a:rPr>
              <a:t>Never swim alone always make sure that somebody is watching</a:t>
            </a:r>
            <a:endParaRPr b="0" i="1" lang="en-US" sz="24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3294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6:04:51Z</dcterms:created>
  <dc:creator>Garry Liddell</dc:creator>
  <dc:description/>
  <dc:language>en-US</dc:language>
  <cp:lastModifiedBy>Admin</cp:lastModifiedBy>
  <dcterms:modified xsi:type="dcterms:W3CDTF">2009-03-05T04:15:34Z</dcterms:modified>
  <cp:revision>2</cp:revision>
  <dc:subject/>
  <dc:title>Safety in the water  for younger kids</dc:title>
</cp:coreProperties>
</file>